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8499-0239-46AF-B10B-38697400E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B816-9E4F-45C3-843E-C1E114BAE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319C-76E5-4FFE-A989-5D4FF52F1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6FEE-BCF7-4EA7-97CE-D6615FCC6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ED7A-01EB-4109-956B-4FAB40AF8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519E-5DAE-4350-B7CA-EDB8A11E2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7CCD-DC92-4BBC-81B9-D2676FA64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99AB-4F6E-467F-844C-B8FF37EAF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686B-B740-45CE-9277-B036D0413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4AB4-6963-4D8B-8C51-93EF7ADD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088A-28EB-41F9-B9E6-DC9F3CB9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621F-4F36-447D-A7B5-A2D5D4A8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F3A76-E2EC-4986-A4FA-05143E03D0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одоление коммуникативных трудностей на этапе адаптации  у учащихся 1 класса  посредством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гровых прием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84000" y="4652640"/>
            <a:ext cx="528804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-психолог ГБПОУ КК ЕП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велева Л. 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ИТЕЛЬНЫЙ АНАЛИЗ РЕЗУЛЬТАТОВ ИТОГОВОЙ ДИАГНОСТ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57200" y="1600200"/>
          <a:ext cx="8229600" cy="3108240"/>
        </p:xfrm>
        <a:graphic>
          <a:graphicData uri="http://schemas.openxmlformats.org/drawingml/2006/table">
            <a:tbl>
              <a:tblPr/>
              <a:tblGrid>
                <a:gridCol w="801720"/>
                <a:gridCol w="2952720"/>
                <a:gridCol w="1182600"/>
                <a:gridCol w="1646280"/>
                <a:gridCol w="1646280"/>
              </a:tblGrid>
              <a:tr h="64044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уникативные УУ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ий уровен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9-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.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0-20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.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1-20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.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действ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опера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иориза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нные коммуникативные навыки по итогам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ывают позицию собеседника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казывают своё мнение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ируют и задают вопросы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ят понятные высказывания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ют работать в пар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ВОПРОС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Объект 15" descr=""/>
          <p:cNvPicPr/>
          <p:nvPr/>
        </p:nvPicPr>
        <p:blipFill>
          <a:blip r:embed="rId1"/>
          <a:stretch/>
        </p:blipFill>
        <p:spPr>
          <a:xfrm>
            <a:off x="407880" y="1603440"/>
            <a:ext cx="829152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ИТЕЛЬНЫЙ АНАЛИЗ РЕЗУЛЬТАТОВ СТАРТОВОЙ ДИАГНОСТ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00200"/>
          <a:ext cx="8229600" cy="2773440"/>
        </p:xfrm>
        <a:graphic>
          <a:graphicData uri="http://schemas.openxmlformats.org/drawingml/2006/table">
            <a:tbl>
              <a:tblPr/>
              <a:tblGrid>
                <a:gridCol w="730080"/>
                <a:gridCol w="2953080"/>
                <a:gridCol w="1584000"/>
                <a:gridCol w="1511640"/>
                <a:gridCol w="1450800"/>
              </a:tblGrid>
              <a:tr h="30528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уникативные УУД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ий уровен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9-20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.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0-20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.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1-20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.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действ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опера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иориза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ТИВНЫЕ ТРУД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умение договориться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умение слушать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умение высказать свою позицию или учесть  позицию другого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умение задавать вопрос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И РЕШ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Объект 3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22680"/>
          </a:xfrm>
          <a:prstGeom prst="rect">
            <a:avLst/>
          </a:prstGeom>
          <a:ln w="0">
            <a:noFill/>
          </a:ln>
        </p:spPr>
      </p:pic>
      <p:pic>
        <p:nvPicPr>
          <p:cNvPr id="51" name="Схема 4" descr=""/>
          <p:cNvPicPr/>
          <p:nvPr/>
        </p:nvPicPr>
        <p:blipFill>
          <a:blip r:embed="rId2"/>
          <a:stretch/>
        </p:blipFill>
        <p:spPr>
          <a:xfrm>
            <a:off x="828720" y="1390680"/>
            <a:ext cx="770580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НА ВЗАИМОДЕЙСТВ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втор: Жукова 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Объект 6" descr=""/>
          <p:cNvPicPr/>
          <p:nvPr/>
        </p:nvPicPr>
        <p:blipFill>
          <a:blip r:embed="rId1"/>
          <a:srcRect l="20432" t="1826" r="6123" b="3331"/>
          <a:stretch/>
        </p:blipFill>
        <p:spPr>
          <a:xfrm>
            <a:off x="928800" y="2170080"/>
            <a:ext cx="2706480" cy="43545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4720" y="1417320"/>
            <a:ext cx="4041720" cy="75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вторы: Мухаматулина Е.А., Михеева И. 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Объект 9" descr=""/>
          <p:cNvPicPr/>
          <p:nvPr/>
        </p:nvPicPr>
        <p:blipFill>
          <a:blip r:embed="rId2"/>
          <a:stretch/>
        </p:blipFill>
        <p:spPr>
          <a:xfrm>
            <a:off x="5135400" y="2292480"/>
            <a:ext cx="2962440" cy="40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НА ВЗАИМОДЕЙСТВ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втор: Боева 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Объект 6" descr=""/>
          <p:cNvPicPr/>
          <p:nvPr/>
        </p:nvPicPr>
        <p:blipFill>
          <a:blip r:embed="rId1"/>
          <a:stretch/>
        </p:blipFill>
        <p:spPr>
          <a:xfrm>
            <a:off x="507960" y="2174760"/>
            <a:ext cx="3938760" cy="39513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Объект 7" descr=""/>
          <p:cNvPicPr/>
          <p:nvPr/>
        </p:nvPicPr>
        <p:blipFill>
          <a:blip r:embed="rId2"/>
          <a:stretch/>
        </p:blipFill>
        <p:spPr>
          <a:xfrm>
            <a:off x="4932360" y="2154240"/>
            <a:ext cx="3168720" cy="40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ДЛЯ РАЗВИТИЯ КООПЕР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Три рисунк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Объект 7" descr=""/>
          <p:cNvPicPr/>
          <p:nvPr/>
        </p:nvPicPr>
        <p:blipFill>
          <a:blip r:embed="rId1"/>
          <a:srcRect l="3816" t="-741" r="8851" b="-625"/>
          <a:stretch/>
        </p:blipFill>
        <p:spPr>
          <a:xfrm>
            <a:off x="414360" y="2292480"/>
            <a:ext cx="4827600" cy="31525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«Пицца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Объект 6" descr=""/>
          <p:cNvPicPr/>
          <p:nvPr/>
        </p:nvPicPr>
        <p:blipFill>
          <a:blip r:embed="rId2"/>
          <a:srcRect l="1142" t="6229" r="0" b="0"/>
          <a:stretch/>
        </p:blipFill>
        <p:spPr>
          <a:xfrm>
            <a:off x="5535720" y="2178000"/>
            <a:ext cx="249228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ДЛЯ РАЗВИТИЯ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ИОРИЗА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«Кто я?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Объект 6" descr=""/>
          <p:cNvPicPr/>
          <p:nvPr/>
        </p:nvPicPr>
        <p:blipFill>
          <a:blip r:embed="rId1"/>
          <a:srcRect l="21819" t="4600" r="23151" b="4647"/>
          <a:stretch/>
        </p:blipFill>
        <p:spPr>
          <a:xfrm>
            <a:off x="1187280" y="2174760"/>
            <a:ext cx="2376720" cy="39182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«Что в сундучке?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Объект 7" descr=""/>
          <p:cNvPicPr/>
          <p:nvPr/>
        </p:nvPicPr>
        <p:blipFill>
          <a:blip r:embed="rId2"/>
          <a:srcRect l="4298" t="2580" r="13694" b="0"/>
          <a:stretch/>
        </p:blipFill>
        <p:spPr>
          <a:xfrm>
            <a:off x="4859280" y="2276640"/>
            <a:ext cx="3241800" cy="38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9T17:09:31Z</dcterms:created>
  <dc:creator>Шевелева Л.В.</dc:creator>
  <dc:description/>
  <dc:language>en-US</dc:language>
  <cp:lastModifiedBy>Женя</cp:lastModifiedBy>
  <dcterms:modified xsi:type="dcterms:W3CDTF">2021-10-12T20:31:45Z</dcterms:modified>
  <cp:revision>39</cp:revision>
  <dc:subject/>
  <dc:title>Презентация PowerPoint</dc:title>
</cp:coreProperties>
</file>